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AFD-FF5A-46AA-B885-5FA17062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4D3-C688-4479-873F-0F31D1B7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60F-D3D3-44E1-BCE0-5A805F21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1F9-A0A9-4900-A18D-EF1F834D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FF6-99C4-49F9-AE28-7A8E91CA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CA9-FC8B-4F01-91EE-B951E1A9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B18D-2F81-4FAD-B4EB-0F3E7FE1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DAB0-1B19-4EBF-B14C-EF31607A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94FD-62B1-4831-92C6-63C236DD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65FA-A14C-4847-A24A-B7FB16EC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09E7-A3FA-4665-91E9-80378944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EA3D-5A46-4E07-96D1-592AA4E4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5FBC-9031-4515-816B-425C966B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5E64-2618-4CDF-9872-DA485B07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7DCB-473D-4450-8963-C8A8404A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13F6-D8E9-4F4F-9A45-99D4ABAE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C87F-1C34-412C-A858-1F06667A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513D-279B-44FD-9AE9-557F5CB7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E26B-CEAF-4DE9-AE49-64494451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EFA4-0F5C-476A-BFA1-B454C1A2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1F56A-C93F-4DC9-9343-944EEE02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570FB-AB3F-4F16-8EF9-1197257C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05CF4-8FE5-4AF8-AB32-B670B990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B17E-16F0-49FA-9F91-B34DD5F1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1CE7-732C-4A85-90BA-2872F9E3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C237-1342-4514-A78E-1925417D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382B-F1E8-45B8-8B46-93BC4F74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84A1C-F4C9-425A-BE23-89B1E9BB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3DC35-FBBC-4B6C-9234-F3B02FDA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2B07-E4F1-439E-B307-F4CFD4B6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E144E-D0AA-41F0-9C72-357EBDA5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B9E2-4C79-4CDD-8568-7D4CF836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3D05E-3166-42A0-8987-5BC7120C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239C0-0B9A-41F5-85FA-AC706F33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8A7F-8F04-407B-B815-77464AAA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93DDF-7CF1-4F6B-95A3-2A0CF8E5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7FBB-6EB2-4FE3-A92E-7EB862B9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CCDA5-A1CE-4D4A-BCB3-FBA47F19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BE0E-FC5C-4970-A466-4B3E6D56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04A1F-F035-4E32-B21F-BBBA6050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A65D-C833-4DD8-963D-169F3888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1314F-482C-4180-86DF-4FED64B8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E95C-FC53-4B37-AA0B-8C5460A8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0316C-3DC9-4C6D-ABA7-945CA1C2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ACCF-AC87-414F-8F0E-D181ACAE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F04BC-94BA-4D91-A00A-C503439D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410A1-8273-49FC-9A34-4638D770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B9123-D927-4A0F-B625-8456B6B6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C4BB7-B6A0-4A70-899A-68495ACD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8B2A1-EB5E-43FB-B7DE-C95CF738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93615-BB6E-480D-B11F-8992A45D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8840E-FB73-409D-AF64-007183EE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6E8BD-9A5A-4828-84D1-AE572878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787CB-550E-4D1A-82EF-AD83E990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80F4C-006C-4865-96D4-62B529F9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2FBF0-6BB2-48FD-8704-C53EAEC6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80455-F9C9-496A-A1F0-6847147C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BE2A2-F3B6-4EF0-9A38-B49B0E10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71EB6-0DCA-4D11-84B5-9D56E632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58232-9595-42E4-A08C-84726336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A69B4-89B6-481A-AAFD-11E5E847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22EF1-605E-47F8-AEAC-87CFD2D4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0C4B0-173F-4931-B66F-C09D6068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F2EB7-0C83-4A15-A648-85FD78E3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11E84-94E1-4FD1-BFEE-D8F7111B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82FCA-1BC1-48D9-8DE6-95A826C2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B18ED-6A83-4E17-B6F2-AA02B71C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09CCA-772D-4DCA-860D-6466C00E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34CF9-7449-43BE-9DE3-CC994EA7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45808-3657-4E96-A442-81DA5312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EDFDC-9744-41DC-B872-6C9169A9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94F43-FA31-45D5-AF18-F1620113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14996-E725-4A26-96D1-2DC8209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63D1C-C322-458D-9CCD-432DC370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0557-0E27-47E4-A22D-79C0E98E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B0CD6-FCE9-40FB-9941-E62894B7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C2C92-41BB-496C-ABFB-F56CAB41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AD9C8-1CC4-4D2E-A985-FE140306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93ED3-3A4E-4FA2-8E91-679BE6F5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231B5-2C54-4BD9-8C72-BAF0E99F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D6FBB-0C46-49BB-9A03-B4FA73E8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259B2-1B73-4529-8877-679C6B02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F10FB-3A01-4E86-8856-E815CDAD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941DC-BE58-410A-9062-BF0F454F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F2629-7CA4-459B-9C00-57276402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D87B7-4A4E-495D-A6AA-71E8E7EF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8C4A8-E1A6-4ABE-BA3D-6226D443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72F35-C5B2-4A6B-8533-6439780A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8D492-3CED-49EF-9137-D53F5501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240D1-CAD1-4334-B6A5-C266167A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B1E75-D26F-431C-9B01-41CAC07A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7ECB1-5166-45A1-81AD-A7FCD49A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6D769-AA76-4E2A-8207-786DA076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B4F-64DC-41B1-91CF-89BD149C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C8CE6-D45F-461E-A6A6-00F33B25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902F5-8203-4BE1-ABA9-92FAC1B6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F0416-C2DF-4535-AB08-C67FD21E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E4BFA-53E0-4B77-B2C1-774D9F34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74787-ED54-45A2-94F2-6E05B0DA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E41E0-DFF6-4FF0-96CF-9A43D43C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34D64-501F-4173-AB4E-0ECB0F9A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94C44-15D7-4A77-BC1F-036258CF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F8110-5DBC-4307-8897-F0CDDB60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6531B-9204-4FF2-B34A-C08F4DC7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90D42-E3B8-464C-B5F1-A0051D76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8AEA8-8EA5-4CC3-8C69-CCA0513E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F6704-6005-4ADF-A92D-95D5F023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1C412-2EB0-4D20-BCAB-AD9EB99B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F8501-A096-4483-84AB-B27A5A36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4906A-28C1-4B17-AB6E-95A60BB4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4D432-FE1D-4F1C-838D-03048166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EC7BA-43C1-408A-8A63-BCF70C7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CE17A-04F7-408C-9EBC-DB8898E5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55762-C387-48D9-8EFB-1A339A69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F7000-2039-4812-B07B-B7654A1E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04527-58ED-4292-A147-A71BC258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62315-C0A2-4ACA-B6B0-3D28518C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7B294-3691-4FEF-A69E-418089CA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40ADB-B3D5-4B2D-AFC3-293D38B1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81729-EB6C-4FF2-966E-1B80590F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23376-D0E9-43E7-A1B3-E5271279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65798-E465-4B5F-9F87-71814520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929E6-A082-4167-9F7A-3811A50B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6371B-D080-42E4-965C-C6E382ED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C37EE-F285-493A-B203-A15D210B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12992-B989-452D-B962-130891BA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6ADB7-5653-4596-875A-6E0E73CD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8CEAF-C565-4A48-B9FA-7A2CBCC3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3C9C0-4AA8-4632-8A74-4EE5D0F7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24EF8-7FF0-4593-8295-8CD4336F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E73FD-9500-45C7-A51A-AE3F2CA7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22273-2F6F-411D-B646-EA3D9F1D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96EF2-AA99-412F-A1A8-5D89F69D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E58DD-AB68-4481-BBEA-412844A2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894BC-BC55-4F05-BBDD-F36BBD48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19769-F20D-4246-AB8F-F923961F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871C4-5F91-4C3D-BA36-920B8C13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BD1B2-071B-46F7-8F10-01B572DA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68F8B-0307-4733-BDA3-A610386B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83A14-69BA-47D0-A648-896D8BD9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9D91F-27A3-4020-B1F3-DF6C4414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E6EB8-8F4B-4D90-8912-B09D2736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570D3-F408-489A-B6AF-2F16638F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6246D-7E57-4DBD-8FFA-D520473E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67AE4-A6A0-42C1-94A3-566E4E0D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43616-B0C3-40FA-B958-620FAACB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C3216-7BA6-4017-AE44-EDEAEDBD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10E5A-1CCD-4615-A126-6574971F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B1817-A85C-430D-B2CA-3DD57EA3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EB660-3A0E-46C8-B7DC-363E7BA3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7FDEE-550C-4AF8-A645-7525D707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4E8-7F15-43A1-9BC0-989DC510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803-EBDB-486B-A597-2D2248E5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4DB-092C-4175-A329-7E7E5C1E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7BD-506E-4BD5-AC87-E30D68D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680-C669-4B01-9E1D-F5BF2D4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92C9-49CA-4F75-977C-30A51F66C7C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7483D-E4AD-42D8-B3FB-8908F97A04A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992E7-54E3-41DB-A474-0AAD5D66C3F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56390-3365-412C-A3EC-FA94A2937EF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6C057-4020-4E9E-8017-B03CA7B1309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B7992-9C10-4899-B50F-A4F6C5D3D3C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31099-D667-445C-85A1-6E7C5E1FC6E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14F92-AD8D-4BBA-96F9-985C29B5732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1ABAF-90A7-4E57-9D2B-D1245DC1E1C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7FDE2-8128-4921-980F-6F60E8D2F6F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D207D-3E0F-4FF3-A070-AAE15F0D0AB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79F22-AD41-4DA6-BED4-E58A2A26553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9"/>
          <p:cNvSpPr/>
          <p:nvPr/>
        </p:nvSpPr>
        <p:spPr>
          <a:xfrm>
            <a:off x="4680" y="44280"/>
            <a:ext cx="9139320" cy="62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Line 31"/>
          <p:cNvSpPr/>
          <p:nvPr/>
        </p:nvSpPr>
        <p:spPr>
          <a:xfrm>
            <a:off x="0" y="681120"/>
            <a:ext cx="914400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Line 31"/>
          <p:cNvSpPr/>
          <p:nvPr/>
        </p:nvSpPr>
        <p:spPr>
          <a:xfrm>
            <a:off x="0" y="19080"/>
            <a:ext cx="914400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5" name="Picture 9" descr=""/>
          <p:cNvPicPr/>
          <p:nvPr/>
        </p:nvPicPr>
        <p:blipFill>
          <a:blip r:embed="rId2"/>
          <a:stretch/>
        </p:blipFill>
        <p:spPr>
          <a:xfrm>
            <a:off x="8445600" y="30240"/>
            <a:ext cx="679320" cy="615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563CE-7A81-4384-94F6-B73F6136537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F1E66-0F0B-4F28-8708-EAD8C22BA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Title 1"/>
          <p:cNvSpPr/>
          <p:nvPr/>
        </p:nvSpPr>
        <p:spPr>
          <a:xfrm>
            <a:off x="108000" y="501480"/>
            <a:ext cx="29494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ผู้ส่งมอบ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พันธมิตร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และผู้ให้ความร่วมมือ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: 8</a:t>
            </a:r>
            <a:br>
              <a:rPr sz="900"/>
            </a:b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800" spc="-1" strike="noStrike">
                <a:solidFill>
                  <a:srgbClr val="ff0000"/>
                </a:solidFill>
                <a:latin typeface="Tahoma"/>
                <a:ea typeface="Tahoma"/>
              </a:rPr>
              <a:t>(</a:t>
            </a:r>
            <a:r>
              <a:rPr b="0" lang="th-TH" sz="800" spc="-1" strike="noStrike">
                <a:solidFill>
                  <a:srgbClr val="ff0000"/>
                </a:solidFill>
                <a:latin typeface="Tahoma"/>
                <a:cs typeface="Tahoma"/>
              </a:rPr>
              <a:t>ผู้ส่งมอบ หมายถึง องค์การหรือกลุ่มบุคคลที่ส่งมอบทรัพยากรในการดำเนินการของส่วนราชการ</a:t>
            </a:r>
            <a:br>
              <a:rPr sz="800"/>
            </a:br>
            <a:r>
              <a:rPr b="0" lang="th-TH" sz="800" spc="-1" strike="noStrike">
                <a:solidFill>
                  <a:srgbClr val="ff0000"/>
                </a:solidFill>
                <a:latin typeface="Tahoma"/>
                <a:ea typeface="Tahoma"/>
              </a:rPr>
              <a:t>  พันธมิตร หมายถึง องค์การหรือกลุ่มบุคคลที่มีความร่วมมือในการดำเนินงานของส่วนราชการอย่างเป็นทางการ เพื่อเป้าประสงค์ที่ชัดเจน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  <a:ea typeface="Tahoma"/>
              </a:rPr>
              <a:t>  </a:t>
            </a:r>
            <a:r>
              <a:rPr b="0" lang="th-TH" sz="800" spc="-1" strike="noStrike">
                <a:solidFill>
                  <a:srgbClr val="ff0000"/>
                </a:solidFill>
                <a:latin typeface="Tahoma"/>
                <a:cs typeface="Tahoma"/>
              </a:rPr>
              <a:t>ผู้ให้ความร่วมมือ หมายถึง องค์การหรือกลุ่มบุคคลที่ให้ความร่วมมือกับส่วนราชการ ในการสนับสนุนกาปฏิบัติการหรือกิจกรรมบางอย่าง หรือเป็นครั้งคราว โดยมีเป้าหมายระยะสั้นที่สอดคล้องกัน มักไม่เป็นทางการ</a:t>
            </a:r>
            <a:r>
              <a:rPr b="0" lang="th-TH" sz="800" spc="-1" strike="noStrike">
                <a:solidFill>
                  <a:srgbClr val="ff0000"/>
                </a:solidFill>
                <a:latin typeface="Tahoma"/>
                <a:ea typeface="Tahoma"/>
              </a:rPr>
              <a:t>)</a:t>
            </a:r>
            <a:br>
              <a:rPr sz="900"/>
            </a:br>
            <a:br>
              <a:rPr sz="900"/>
            </a:b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ต้องการ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Title 1"/>
          <p:cNvSpPr/>
          <p:nvPr/>
        </p:nvSpPr>
        <p:spPr>
          <a:xfrm>
            <a:off x="108000" y="2192400"/>
            <a:ext cx="2949480" cy="13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มีส่วนได้ส่วนเสีย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br>
              <a:rPr sz="900"/>
            </a:b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cs typeface="Tahoma"/>
              </a:rPr>
              <a:t>กลุ่มทุกกลุ่มที่ได้รับผลกระทบหรืออาจจะได้รับผลกระทบจากการปฏิบัติการและความสำเร็จของส่วนราชการ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ea typeface="Tahoma"/>
              </a:rPr>
              <a:t>)</a:t>
            </a:r>
            <a:br>
              <a:rPr sz="900"/>
            </a:br>
            <a:br>
              <a:rPr sz="900"/>
            </a:b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ต้องการ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Title 1"/>
          <p:cNvSpPr/>
          <p:nvPr/>
        </p:nvSpPr>
        <p:spPr>
          <a:xfrm>
            <a:off x="109440" y="3578400"/>
            <a:ext cx="2949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มรรถนะหลักขององค์กร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cs typeface="Tahoma"/>
              </a:rPr>
              <a:t>เรื่องที่ส่วนราชการมีความรู้ ความชำนาญ ความเชี่ยวชาญมากที่สุด และสร้างความได้เปรียบให้กับส่วนราชการ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Title 1"/>
          <p:cNvSpPr/>
          <p:nvPr/>
        </p:nvSpPr>
        <p:spPr>
          <a:xfrm>
            <a:off x="3203640" y="4714920"/>
            <a:ext cx="583236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ได้เปรียบเชิงยุทธศาสตร์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 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ด้านพันธกิจ ปฏิบัติการ บุคลากร สังค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itle 1"/>
          <p:cNvSpPr/>
          <p:nvPr/>
        </p:nvSpPr>
        <p:spPr>
          <a:xfrm>
            <a:off x="109440" y="5832360"/>
            <a:ext cx="2949840" cy="9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Calibri"/>
                <a:cs typeface="Angsana New"/>
              </a:rPr>
              <a:t>การเปลี่ยนแปลงความสามารถในการแข่งขัน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itle 1"/>
          <p:cNvSpPr/>
          <p:nvPr/>
        </p:nvSpPr>
        <p:spPr>
          <a:xfrm>
            <a:off x="3203640" y="519120"/>
            <a:ext cx="309708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พันธกิจ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สัยทัศน์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่านิยม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ff0000"/>
                </a:solidFill>
                <a:latin typeface="Tahoma"/>
                <a:cs typeface="Tahoma"/>
              </a:rPr>
              <a:t>งบประมาณ</a:t>
            </a:r>
            <a:r>
              <a:rPr b="0" lang="en-GB" sz="900" spc="-1" strike="noStrike">
                <a:solidFill>
                  <a:srgbClr val="ff0000"/>
                </a:solidFill>
                <a:latin typeface="Tahoma"/>
                <a:ea typeface="Tahoma"/>
              </a:rPr>
              <a:t>: 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cs typeface="Tahoma"/>
              </a:rPr>
              <a:t>ปี </a:t>
            </a:r>
            <a:r>
              <a:rPr b="0" lang="en-US" sz="900" spc="-1" strike="noStrike">
                <a:solidFill>
                  <a:srgbClr val="ff0000"/>
                </a:solidFill>
                <a:latin typeface="Tahoma"/>
                <a:ea typeface="Tahoma"/>
              </a:rPr>
              <a:t>60 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cs typeface="Tahoma"/>
              </a:rPr>
              <a:t>แหล่งง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ff0000"/>
                </a:solidFill>
                <a:latin typeface="Tahoma"/>
                <a:cs typeface="Tahoma"/>
              </a:rPr>
              <a:t>รายได้</a:t>
            </a:r>
            <a:r>
              <a:rPr b="0" lang="en-GB" sz="900" spc="-1" strike="noStrike">
                <a:solidFill>
                  <a:srgbClr val="ff0000"/>
                </a:solidFill>
                <a:latin typeface="Tahoma"/>
                <a:ea typeface="Tahoma"/>
              </a:rPr>
              <a:t>: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cs typeface="Tahoma"/>
              </a:rPr>
              <a:t>รักษาพยาบาล บริจา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ff0000"/>
                </a:solidFill>
                <a:latin typeface="Tahoma"/>
                <a:cs typeface="Tahoma"/>
              </a:rPr>
              <a:t>จำนวนบุคลากร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ฎหมาย ระเบียบ ข้อบังคับ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ะบบการปรับปรุงผลการดำเนิ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Title 1"/>
          <p:cNvSpPr/>
          <p:nvPr/>
        </p:nvSpPr>
        <p:spPr>
          <a:xfrm>
            <a:off x="6372360" y="519120"/>
            <a:ext cx="2663640" cy="12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ภารกิจ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บริการหลัก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ุณลักษณะโดดเด่นของภารกิจ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บริการ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cs typeface="Tahoma"/>
              </a:rPr>
              <a:t>จุดเด่น มีส่วนร่วม  การดูแลทุกระดับ มีมาตรฐานรองรับ </a:t>
            </a:r>
            <a:r>
              <a:rPr b="0" lang="en-US" sz="900" spc="-1" strike="noStrike">
                <a:solidFill>
                  <a:srgbClr val="ff0000"/>
                </a:solidFill>
                <a:latin typeface="Tahoma"/>
                <a:ea typeface="Tahoma"/>
              </a:rPr>
              <a:t>HA 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cs typeface="Tahoma"/>
              </a:rPr>
              <a:t>ราคาสมเหตุ  สมผล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Title 1"/>
          <p:cNvSpPr/>
          <p:nvPr/>
        </p:nvSpPr>
        <p:spPr>
          <a:xfrm>
            <a:off x="6372360" y="1924200"/>
            <a:ext cx="2663640" cy="12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รับบริการ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ต้องการ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Title 1"/>
          <p:cNvSpPr/>
          <p:nvPr/>
        </p:nvSpPr>
        <p:spPr>
          <a:xfrm>
            <a:off x="108000" y="4711680"/>
            <a:ext cx="294948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หล่งข้อมูลเชิงเปรียบเทียบ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Title 1"/>
          <p:cNvSpPr/>
          <p:nvPr/>
        </p:nvSpPr>
        <p:spPr>
          <a:xfrm>
            <a:off x="3203640" y="5832360"/>
            <a:ext cx="5832360" cy="9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ท้าทายเชิงยุทธศาสตร์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 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ด้านพันธกิจ ปฏิบัติการ บุคลากร สังค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6372360" y="3340080"/>
            <a:ext cx="2663640" cy="12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ภาพแวดล้อมการแข่งขัน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cs typeface="Tahoma"/>
              </a:rPr>
              <a:t>ภาวะ หรือสภาพแวดล้อมของการแข่งขันในขณะนั้น รวมถึงแนวโน้มการแข่งขันในอนาคต ซึ่งจะช่วยในการตัดสินใจในการแข่งขันและวางกลยุทธ์ที่เหมาะสมของผู้บริหารองค์กร</a:t>
            </a:r>
            <a:r>
              <a:rPr b="0" lang="th-TH" sz="900" spc="-1" strike="noStrike">
                <a:solidFill>
                  <a:srgbClr val="ff0000"/>
                </a:solidFill>
                <a:latin typeface="Tahoma"/>
                <a:ea typeface="Tahoma"/>
              </a:rPr>
              <a:t>)  </a:t>
            </a:r>
            <a:r>
              <a:rPr b="0" lang="en-US" sz="900" spc="-1" strike="noStrike">
                <a:solidFill>
                  <a:srgbClr val="ff0000"/>
                </a:solidFill>
                <a:latin typeface="Tahoma"/>
                <a:ea typeface="Tahoma"/>
              </a:rPr>
              <a:t>“””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AutoShape 12"/>
          <p:cNvSpPr/>
          <p:nvPr/>
        </p:nvSpPr>
        <p:spPr>
          <a:xfrm>
            <a:off x="0" y="58680"/>
            <a:ext cx="9144000" cy="341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0000"/>
          </a:bodyPr>
          <a:p>
            <a:pPr marL="126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1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ลักษณะสำคัญ</a:t>
            </a:r>
            <a:r>
              <a:rPr b="1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ของ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องค์ก</a:t>
            </a:r>
            <a:r>
              <a:rPr b="1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า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ร</a:t>
            </a:r>
            <a:r>
              <a:rPr b="1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แบบย่อ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หน้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โดยสรุป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หน้า ขยายความในเอกสารแนบได้อีกไม่เกิน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หน้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21589-1598-4048-957E-7BE3C0061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6:35:00Z</dcterms:created>
  <dc:creator>Rachavarn</dc:creator>
  <dc:description/>
  <dc:language>en-US</dc:language>
  <cp:lastModifiedBy>Mr.KKD</cp:lastModifiedBy>
  <dcterms:modified xsi:type="dcterms:W3CDTF">2017-12-07T03:14:20Z</dcterms:modified>
  <cp:revision>362</cp:revision>
  <dc:subject/>
  <dc:title>PowerPoint Presentation</dc:title>
</cp:coreProperties>
</file>